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1800" cy="124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DB0D-A2D9-4048-8953-A838331BA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448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6320"/>
            <a:ext cx="776448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71A3-FFEE-4CCC-9FC9-D51B4F7A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632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520" y="412632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126C-3A7F-46B2-A6E6-4A8D4FCF7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49984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920" y="1981080"/>
            <a:ext cx="249984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6400" y="1981080"/>
            <a:ext cx="249984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6320"/>
            <a:ext cx="249984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920" y="4126320"/>
            <a:ext cx="249984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6400" y="4126320"/>
            <a:ext cx="249984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FF00-DF9B-4C4D-A190-FEF108954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4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C15B-2507-469A-913D-115F8F9F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4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2F2C-6172-478A-8CAA-6ADBC420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CEDA-5F5B-4731-BEEA-DBA98034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91D6-32A4-4B90-A8AD-4FEF9DFE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44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595F-E0E7-4D02-BF68-83D24B5F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632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6886-2B29-4F7F-B3B3-5B772BF0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520" y="412632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9565-BA01-4E9A-B54D-09B935FB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6320"/>
            <a:ext cx="776448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0DB2-4D98-4C38-874E-E6062950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4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1200" indent="-331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560" indent="-275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9E5C3F-DA3F-4275-8258-71234310223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"/>
          <p:cNvSpPr/>
          <p:nvPr/>
        </p:nvSpPr>
        <p:spPr>
          <a:xfrm>
            <a:off x="2382840" y="1600200"/>
            <a:ext cx="1795320" cy="4572000"/>
          </a:xfrm>
          <a:custGeom>
            <a:avLst/>
            <a:gdLst>
              <a:gd name="textAreaLeft" fmla="*/ 87480 w 1795320"/>
              <a:gd name="textAreaRight" fmla="*/ 1707840 w 1795320"/>
              <a:gd name="textAreaTop" fmla="*/ 87480 h 4572000"/>
              <a:gd name="textAreaBottom" fmla="*/ 4484520 h 4572000"/>
            </a:gdLst>
            <a:ahLst/>
            <a:rect l="textAreaLeft" t="textAreaTop" r="textAreaRight" b="textAreaBottom"/>
            <a:pathLst>
              <a:path w="21600" h="55000">
                <a:moveTo>
                  <a:pt x="3600" y="0"/>
                </a:moveTo>
                <a:arcTo wR="3600" hR="3600" stAng="16200000" swAng="-5400000"/>
                <a:lnTo>
                  <a:pt x="0" y="51400"/>
                </a:lnTo>
                <a:arcTo wR="3600" hR="3600" stAng="10800000" swAng="-5400000"/>
                <a:lnTo>
                  <a:pt x="18000" y="550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56565"/>
              </a:gs>
              <a:gs pos="100000">
                <a:srgbClr val="dddddd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AutoShape 2"/>
          <p:cNvSpPr/>
          <p:nvPr/>
        </p:nvSpPr>
        <p:spPr>
          <a:xfrm>
            <a:off x="2481120" y="2328840"/>
            <a:ext cx="1597320" cy="598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efed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flowFrame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AutoShape 3"/>
          <p:cNvSpPr/>
          <p:nvPr/>
        </p:nvSpPr>
        <p:spPr>
          <a:xfrm>
            <a:off x="2481120" y="3027240"/>
            <a:ext cx="1597320" cy="598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efed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flowFrame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481120" y="3724200"/>
            <a:ext cx="1597320" cy="598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efed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flowFrame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2481120" y="4645080"/>
            <a:ext cx="159732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99"/>
              </a:gs>
              <a:gs pos="100000">
                <a:srgbClr val="feecd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pheno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662200" y="4815000"/>
            <a:ext cx="159696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Picture 7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69720" y="493236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401760" y="508320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Sample Meta-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Picture 9" descr=""/>
          <p:cNvPicPr/>
          <p:nvPr/>
        </p:nvPicPr>
        <p:blipFill>
          <a:blip r:embed="rId2"/>
          <a:stretch/>
        </p:blipFill>
        <p:spPr>
          <a:xfrm>
            <a:off x="6778800" y="3076560"/>
            <a:ext cx="2288880" cy="15238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0"/>
          <p:cNvSpPr/>
          <p:nvPr/>
        </p:nvSpPr>
        <p:spPr>
          <a:xfrm>
            <a:off x="6902280" y="4830840"/>
            <a:ext cx="2089440" cy="116208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fr-FR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500" spc="-1" strike="noStrike">
                <a:solidFill>
                  <a:srgbClr val="000000"/>
                </a:solidFill>
                <a:latin typeface="Courier New"/>
              </a:rPr>
              <a:t>summary(filt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Courier New"/>
              </a:rPr>
              <a:t>Pop1: 1236 of 10000 (12.36%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Courier New"/>
              </a:rPr>
              <a:t>Pop2: 6996 of 10000 (69.96%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Courier New"/>
              </a:rPr>
              <a:t>Pop3: 1768 of 10000 (17.68%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7262640" y="1746360"/>
            <a:ext cx="14479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Freeform 12"/>
          <p:cNvSpPr/>
          <p:nvPr/>
        </p:nvSpPr>
        <p:spPr>
          <a:xfrm>
            <a:off x="7486560" y="1820880"/>
            <a:ext cx="1143000" cy="330120"/>
          </a:xfrm>
          <a:prstGeom prst="pie">
            <a:avLst/>
          </a:prstGeom>
          <a:solidFill>
            <a:srgbClr val="cc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Line 13"/>
          <p:cNvSpPr/>
          <p:nvPr/>
        </p:nvSpPr>
        <p:spPr>
          <a:xfrm>
            <a:off x="7486560" y="2660760"/>
            <a:ext cx="1219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Line 14"/>
          <p:cNvSpPr/>
          <p:nvPr/>
        </p:nvSpPr>
        <p:spPr>
          <a:xfrm flipV="1">
            <a:off x="7410600" y="1812960"/>
            <a:ext cx="1440" cy="85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Freeform 15"/>
          <p:cNvSpPr/>
          <p:nvPr/>
        </p:nvSpPr>
        <p:spPr>
          <a:xfrm>
            <a:off x="7486560" y="1974960"/>
            <a:ext cx="990720" cy="33012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Freeform 16"/>
          <p:cNvSpPr/>
          <p:nvPr/>
        </p:nvSpPr>
        <p:spPr>
          <a:xfrm>
            <a:off x="7486560" y="2176560"/>
            <a:ext cx="990720" cy="330120"/>
          </a:xfrm>
          <a:prstGeom prst="pie">
            <a:avLst/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Freeform 17"/>
          <p:cNvSpPr/>
          <p:nvPr/>
        </p:nvSpPr>
        <p:spPr>
          <a:xfrm>
            <a:off x="7486560" y="2328840"/>
            <a:ext cx="990720" cy="330120"/>
          </a:xfrm>
          <a:prstGeom prst="pie">
            <a:avLst/>
          </a:prstGeom>
          <a:solidFill>
            <a:srgbClr val="ff99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Line 18"/>
          <p:cNvSpPr/>
          <p:nvPr/>
        </p:nvSpPr>
        <p:spPr>
          <a:xfrm>
            <a:off x="1998720" y="1065240"/>
            <a:ext cx="1440" cy="4876920"/>
          </a:xfrm>
          <a:prstGeom prst="line">
            <a:avLst/>
          </a:prstGeom>
          <a:ln w="2844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380520" y="800280"/>
            <a:ext cx="129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20"/>
          <p:cNvSpPr/>
          <p:nvPr/>
        </p:nvSpPr>
        <p:spPr>
          <a:xfrm>
            <a:off x="7220520" y="800280"/>
            <a:ext cx="1322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Line 21"/>
          <p:cNvSpPr/>
          <p:nvPr/>
        </p:nvSpPr>
        <p:spPr>
          <a:xfrm>
            <a:off x="6702480" y="1143000"/>
            <a:ext cx="1440" cy="4876920"/>
          </a:xfrm>
          <a:prstGeom prst="line">
            <a:avLst/>
          </a:prstGeom>
          <a:ln w="2844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22"/>
          <p:cNvSpPr/>
          <p:nvPr/>
        </p:nvSpPr>
        <p:spPr>
          <a:xfrm>
            <a:off x="2338560" y="800280"/>
            <a:ext cx="193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ahoma"/>
              </a:rPr>
              <a:t>STRUCTUR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" name="Group 23"/>
          <p:cNvGrpSpPr/>
          <p:nvPr/>
        </p:nvGrpSpPr>
        <p:grpSpPr>
          <a:xfrm>
            <a:off x="547560" y="1960560"/>
            <a:ext cx="846000" cy="2760840"/>
            <a:chOff x="547560" y="1960560"/>
            <a:chExt cx="846000" cy="2760840"/>
          </a:xfrm>
        </p:grpSpPr>
        <p:grpSp>
          <p:nvGrpSpPr>
            <p:cNvPr id="71" name="Group 24"/>
            <p:cNvGrpSpPr/>
            <p:nvPr/>
          </p:nvGrpSpPr>
          <p:grpSpPr>
            <a:xfrm>
              <a:off x="550800" y="2921040"/>
              <a:ext cx="836280" cy="836640"/>
              <a:chOff x="550800" y="2921040"/>
              <a:chExt cx="836280" cy="836640"/>
            </a:xfrm>
          </p:grpSpPr>
          <p:pic>
            <p:nvPicPr>
              <p:cNvPr id="72" name="Picture 25" descr=""/>
              <p:cNvPicPr/>
              <p:nvPr/>
            </p:nvPicPr>
            <p:blipFill>
              <a:blip r:embed="rId3">
                <a:lum bright="70000" contrast="-70000"/>
              </a:blip>
              <a:stretch/>
            </p:blipFill>
            <p:spPr>
              <a:xfrm>
                <a:off x="550800" y="2921040"/>
                <a:ext cx="836280" cy="83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Text Box 26"/>
              <p:cNvSpPr/>
              <p:nvPr/>
            </p:nvSpPr>
            <p:spPr>
              <a:xfrm>
                <a:off x="595080" y="3152160"/>
                <a:ext cx="768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Tahoma"/>
                  </a:rPr>
                  <a:t>FCS 2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Group 27"/>
            <p:cNvGrpSpPr/>
            <p:nvPr/>
          </p:nvGrpSpPr>
          <p:grpSpPr>
            <a:xfrm>
              <a:off x="557280" y="1960560"/>
              <a:ext cx="836280" cy="836640"/>
              <a:chOff x="557280" y="1960560"/>
              <a:chExt cx="836280" cy="836640"/>
            </a:xfrm>
          </p:grpSpPr>
          <p:pic>
            <p:nvPicPr>
              <p:cNvPr id="75" name="Picture 28" descr=""/>
              <p:cNvPicPr/>
              <p:nvPr/>
            </p:nvPicPr>
            <p:blipFill>
              <a:blip r:embed="rId4">
                <a:lum bright="70000" contrast="-70000"/>
              </a:blip>
              <a:stretch/>
            </p:blipFill>
            <p:spPr>
              <a:xfrm>
                <a:off x="557280" y="1960560"/>
                <a:ext cx="836280" cy="83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Text Box 29"/>
              <p:cNvSpPr/>
              <p:nvPr/>
            </p:nvSpPr>
            <p:spPr>
              <a:xfrm>
                <a:off x="603000" y="2188440"/>
                <a:ext cx="768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Tahoma"/>
                  </a:rPr>
                  <a:t>FCS 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Group 30"/>
            <p:cNvGrpSpPr/>
            <p:nvPr/>
          </p:nvGrpSpPr>
          <p:grpSpPr>
            <a:xfrm>
              <a:off x="547560" y="3884760"/>
              <a:ext cx="837000" cy="836640"/>
              <a:chOff x="547560" y="3884760"/>
              <a:chExt cx="837000" cy="836640"/>
            </a:xfrm>
          </p:grpSpPr>
          <p:pic>
            <p:nvPicPr>
              <p:cNvPr id="78" name="Picture 31" descr=""/>
              <p:cNvPicPr/>
              <p:nvPr/>
            </p:nvPicPr>
            <p:blipFill>
              <a:blip r:embed="rId5">
                <a:lum bright="70000" contrast="-70000"/>
              </a:blip>
              <a:stretch/>
            </p:blipFill>
            <p:spPr>
              <a:xfrm>
                <a:off x="547560" y="3884760"/>
                <a:ext cx="837000" cy="83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Text Box 32"/>
              <p:cNvSpPr/>
              <p:nvPr/>
            </p:nvSpPr>
            <p:spPr>
              <a:xfrm>
                <a:off x="593640" y="4112640"/>
                <a:ext cx="768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Tahoma"/>
                  </a:rPr>
                  <a:t>FCS 3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" name="Line 33"/>
          <p:cNvSpPr/>
          <p:nvPr/>
        </p:nvSpPr>
        <p:spPr>
          <a:xfrm>
            <a:off x="6702480" y="1143000"/>
            <a:ext cx="1440" cy="4876920"/>
          </a:xfrm>
          <a:prstGeom prst="line">
            <a:avLst/>
          </a:prstGeom>
          <a:ln w="2844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Line 34"/>
          <p:cNvSpPr/>
          <p:nvPr/>
        </p:nvSpPr>
        <p:spPr>
          <a:xfrm>
            <a:off x="4568760" y="1065240"/>
            <a:ext cx="1800" cy="4876920"/>
          </a:xfrm>
          <a:prstGeom prst="line">
            <a:avLst/>
          </a:prstGeom>
          <a:ln w="2844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35"/>
          <p:cNvSpPr/>
          <p:nvPr/>
        </p:nvSpPr>
        <p:spPr>
          <a:xfrm>
            <a:off x="4718160" y="793800"/>
            <a:ext cx="188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Line 36"/>
          <p:cNvSpPr/>
          <p:nvPr/>
        </p:nvSpPr>
        <p:spPr>
          <a:xfrm>
            <a:off x="1725480" y="3373560"/>
            <a:ext cx="560520" cy="1440"/>
          </a:xfrm>
          <a:prstGeom prst="line">
            <a:avLst/>
          </a:prstGeom>
          <a:ln w="27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37"/>
          <p:cNvSpPr/>
          <p:nvPr/>
        </p:nvSpPr>
        <p:spPr>
          <a:xfrm>
            <a:off x="2523960" y="1670040"/>
            <a:ext cx="14828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CA" sz="2400" spc="-1" strike="noStrike">
                <a:solidFill>
                  <a:srgbClr val="ffffff"/>
                </a:solidFill>
                <a:latin typeface="Tahoma"/>
              </a:rPr>
              <a:t>flow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38"/>
          <p:cNvSpPr/>
          <p:nvPr/>
        </p:nvSpPr>
        <p:spPr>
          <a:xfrm>
            <a:off x="4689360" y="2552760"/>
            <a:ext cx="192564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ahoma"/>
              </a:rPr>
              <a:t>compens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ahoma"/>
              </a:rPr>
              <a:t>transfo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ahoma"/>
              </a:rPr>
              <a:t>fil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ahoma"/>
              </a:rPr>
              <a:t>subs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AutoShape 39"/>
          <p:cNvSpPr/>
          <p:nvPr/>
        </p:nvSpPr>
        <p:spPr>
          <a:xfrm>
            <a:off x="1417680" y="2320920"/>
            <a:ext cx="179280" cy="2021040"/>
          </a:xfrm>
          <a:custGeom>
            <a:avLst/>
            <a:gdLst>
              <a:gd name="textAreaLeft" fmla="*/ 0 w 179280"/>
              <a:gd name="textAreaRight" fmla="*/ 64800 w 179280"/>
              <a:gd name="textAreaTop" fmla="*/ 52560 h 2021040"/>
              <a:gd name="textAreaBottom" fmla="*/ 1968480 h 202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347"/>
                </a:lnTo>
                <a:cubicBezTo>
                  <a:pt x="10800" y="10247"/>
                  <a:pt x="16200" y="11147"/>
                  <a:pt x="21600" y="11147"/>
                </a:cubicBezTo>
                <a:cubicBezTo>
                  <a:pt x="16200" y="11147"/>
                  <a:pt x="10800" y="12047"/>
                  <a:pt x="10800" y="1294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40"/>
          <p:cNvSpPr/>
          <p:nvPr/>
        </p:nvSpPr>
        <p:spPr>
          <a:xfrm>
            <a:off x="3040200" y="4164120"/>
            <a:ext cx="4093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Line 41"/>
          <p:cNvSpPr/>
          <p:nvPr/>
        </p:nvSpPr>
        <p:spPr>
          <a:xfrm>
            <a:off x="1725480" y="5497560"/>
            <a:ext cx="560520" cy="1440"/>
          </a:xfrm>
          <a:prstGeom prst="line">
            <a:avLst/>
          </a:prstGeom>
          <a:ln w="27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43"/>
          <p:cNvSpPr/>
          <p:nvPr/>
        </p:nvSpPr>
        <p:spPr>
          <a:xfrm>
            <a:off x="2511360" y="5079960"/>
            <a:ext cx="13716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44"/>
          <p:cNvSpPr/>
          <p:nvPr/>
        </p:nvSpPr>
        <p:spPr>
          <a:xfrm>
            <a:off x="2484360" y="5014800"/>
            <a:ext cx="1552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CA" sz="1200" spc="-1" strike="noStrike">
                <a:solidFill>
                  <a:srgbClr val="000000"/>
                </a:solidFill>
                <a:latin typeface="Courier New"/>
              </a:rPr>
              <a:t>Age Sex 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ourier New"/>
              </a:rPr>
              <a:t>f1  41  m  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ourier New"/>
              </a:rPr>
              <a:t>f2  44  f  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ourier New"/>
              </a:rPr>
              <a:t>f3  41  m  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45"/>
          <p:cNvSpPr/>
          <p:nvPr/>
        </p:nvSpPr>
        <p:spPr>
          <a:xfrm>
            <a:off x="3197160" y="5078520"/>
            <a:ext cx="1810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Line 46"/>
          <p:cNvSpPr/>
          <p:nvPr/>
        </p:nvSpPr>
        <p:spPr>
          <a:xfrm>
            <a:off x="2583000" y="5270400"/>
            <a:ext cx="1371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olwenn</dc:creator>
  <dc:description/>
  <dc:language>en-US</dc:language>
  <cp:lastModifiedBy>Nolwenn Le Meur</cp:lastModifiedBy>
  <dcterms:modified xsi:type="dcterms:W3CDTF">2009-01-15T15:15:55Z</dcterms:modified>
  <cp:revision>2</cp:revision>
  <dc:subject/>
  <dc:title>Présentation PowerPoint</dc:title>
</cp:coreProperties>
</file>