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379-DC20-4C6C-934F-68A92246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63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C082-FCA4-47D3-A98C-1DC5FD14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63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263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EA6-E109-41EB-9056-595566C6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63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263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263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103-B8F1-4398-AD93-6A13AB61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706-9BAB-4E76-8DB7-DEA48161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941-23B1-41C5-87B2-EC6F69DE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445-AF69-4803-B874-D22146DD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214-42A4-4BBC-8FF1-32701671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705-F086-4291-88F5-646A8F90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63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510-B9D7-41AA-8DE3-DF9DDBA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263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7B0-66AB-4696-9070-C75064F5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63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AA6-B817-4645-AEE5-B34FFE55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560" indent="-275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D5035-23A2-43CD-B885-67EBE01562D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2382840" y="1600200"/>
            <a:ext cx="1795320" cy="4572000"/>
          </a:xfrm>
          <a:custGeom>
            <a:avLst/>
            <a:gdLst>
              <a:gd name="textAreaLeft" fmla="*/ 87480 w 1795320"/>
              <a:gd name="textAreaRight" fmla="*/ 1707840 w 1795320"/>
              <a:gd name="textAreaTop" fmla="*/ 87480 h 4572000"/>
              <a:gd name="textAreaBottom" fmla="*/ 4484520 h 4572000"/>
            </a:gdLst>
            <a:ahLst/>
            <a:rect l="textAreaLeft" t="textAreaTop" r="textAreaRight" b="textAreaBottom"/>
            <a:pathLst>
              <a:path w="21600" h="55000">
                <a:moveTo>
                  <a:pt x="3600" y="0"/>
                </a:moveTo>
                <a:arcTo wR="3600" hR="3600" stAng="16200000" swAng="-5400000"/>
                <a:lnTo>
                  <a:pt x="0" y="51400"/>
                </a:lnTo>
                <a:arcTo wR="3600" hR="3600" stAng="10800000" swAng="-5400000"/>
                <a:lnTo>
                  <a:pt x="18000" y="55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2481120" y="2328840"/>
            <a:ext cx="159732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efed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flowFram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2481120" y="3027240"/>
            <a:ext cx="159732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efed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flowFra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81120" y="3724200"/>
            <a:ext cx="159732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efed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flowFra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481120" y="4645080"/>
            <a:ext cx="159732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eecd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pheno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662200" y="4815000"/>
            <a:ext cx="15969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9720" y="493236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401760" y="50832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Sample Meta-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6778800" y="3076560"/>
            <a:ext cx="2288880" cy="1523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6902280" y="4830840"/>
            <a:ext cx="2089440" cy="116208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Courier New"/>
              </a:rPr>
              <a:t>summary(fil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ourier New"/>
              </a:rPr>
              <a:t>Pop1: 1236 of 10000 (12.36%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ourier New"/>
              </a:rPr>
              <a:t>Pop2: 6996 of 10000 (69.96%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ourier New"/>
              </a:rPr>
              <a:t>Pop3: 1768 of 10000 (17.68%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7262640" y="1746360"/>
            <a:ext cx="1447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Freeform 12"/>
          <p:cNvSpPr/>
          <p:nvPr/>
        </p:nvSpPr>
        <p:spPr>
          <a:xfrm>
            <a:off x="7486560" y="1820880"/>
            <a:ext cx="1143000" cy="33012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7486560" y="266076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14"/>
          <p:cNvSpPr/>
          <p:nvPr/>
        </p:nvSpPr>
        <p:spPr>
          <a:xfrm flipV="1">
            <a:off x="7410600" y="1812960"/>
            <a:ext cx="1440" cy="85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5"/>
          <p:cNvSpPr/>
          <p:nvPr/>
        </p:nvSpPr>
        <p:spPr>
          <a:xfrm>
            <a:off x="7486560" y="1974960"/>
            <a:ext cx="990720" cy="3301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16"/>
          <p:cNvSpPr/>
          <p:nvPr/>
        </p:nvSpPr>
        <p:spPr>
          <a:xfrm>
            <a:off x="7486560" y="2176560"/>
            <a:ext cx="990720" cy="33012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17"/>
          <p:cNvSpPr/>
          <p:nvPr/>
        </p:nvSpPr>
        <p:spPr>
          <a:xfrm>
            <a:off x="7486560" y="2328840"/>
            <a:ext cx="990720" cy="330120"/>
          </a:xfrm>
          <a:prstGeom prst="pie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>
            <a:off x="1998720" y="1065240"/>
            <a:ext cx="1440" cy="4876920"/>
          </a:xfrm>
          <a:prstGeom prst="line">
            <a:avLst/>
          </a:prstGeom>
          <a:ln w="2844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80520" y="8002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7220520" y="800280"/>
            <a:ext cx="132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6702480" y="1143000"/>
            <a:ext cx="1440" cy="4876920"/>
          </a:xfrm>
          <a:prstGeom prst="line">
            <a:avLst/>
          </a:prstGeom>
          <a:ln w="2844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338560" y="800280"/>
            <a:ext cx="193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23"/>
          <p:cNvGrpSpPr/>
          <p:nvPr/>
        </p:nvGrpSpPr>
        <p:grpSpPr>
          <a:xfrm>
            <a:off x="547560" y="1960560"/>
            <a:ext cx="846000" cy="2760840"/>
            <a:chOff x="547560" y="1960560"/>
            <a:chExt cx="846000" cy="2760840"/>
          </a:xfrm>
        </p:grpSpPr>
        <p:grpSp>
          <p:nvGrpSpPr>
            <p:cNvPr id="71" name="Group 24"/>
            <p:cNvGrpSpPr/>
            <p:nvPr/>
          </p:nvGrpSpPr>
          <p:grpSpPr>
            <a:xfrm>
              <a:off x="550800" y="2921040"/>
              <a:ext cx="836280" cy="836640"/>
              <a:chOff x="550800" y="2921040"/>
              <a:chExt cx="836280" cy="836640"/>
            </a:xfrm>
          </p:grpSpPr>
          <p:pic>
            <p:nvPicPr>
              <p:cNvPr id="72" name="Picture 25" descr=""/>
              <p:cNvPicPr/>
              <p:nvPr/>
            </p:nvPicPr>
            <p:blipFill>
              <a:blip r:embed="rId3">
                <a:lum bright="70000" contrast="-70000"/>
              </a:blip>
              <a:stretch/>
            </p:blipFill>
            <p:spPr>
              <a:xfrm>
                <a:off x="550800" y="2921040"/>
                <a:ext cx="83628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Text Box 26"/>
              <p:cNvSpPr/>
              <p:nvPr/>
            </p:nvSpPr>
            <p:spPr>
              <a:xfrm>
                <a:off x="595080" y="315216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ahoma"/>
                  </a:rPr>
                  <a:t>FCS 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Group 27"/>
            <p:cNvGrpSpPr/>
            <p:nvPr/>
          </p:nvGrpSpPr>
          <p:grpSpPr>
            <a:xfrm>
              <a:off x="557280" y="1960560"/>
              <a:ext cx="836280" cy="836640"/>
              <a:chOff x="557280" y="1960560"/>
              <a:chExt cx="836280" cy="836640"/>
            </a:xfrm>
          </p:grpSpPr>
          <p:pic>
            <p:nvPicPr>
              <p:cNvPr id="75" name="Picture 28" descr=""/>
              <p:cNvPicPr/>
              <p:nvPr/>
            </p:nvPicPr>
            <p:blipFill>
              <a:blip r:embed="rId4">
                <a:lum bright="70000" contrast="-70000"/>
              </a:blip>
              <a:stretch/>
            </p:blipFill>
            <p:spPr>
              <a:xfrm>
                <a:off x="557280" y="1960560"/>
                <a:ext cx="83628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Text Box 29"/>
              <p:cNvSpPr/>
              <p:nvPr/>
            </p:nvSpPr>
            <p:spPr>
              <a:xfrm>
                <a:off x="603000" y="218844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ahoma"/>
                  </a:rPr>
                  <a:t>FCS 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30"/>
            <p:cNvGrpSpPr/>
            <p:nvPr/>
          </p:nvGrpSpPr>
          <p:grpSpPr>
            <a:xfrm>
              <a:off x="547560" y="3884760"/>
              <a:ext cx="837000" cy="836640"/>
              <a:chOff x="547560" y="3884760"/>
              <a:chExt cx="837000" cy="836640"/>
            </a:xfrm>
          </p:grpSpPr>
          <p:pic>
            <p:nvPicPr>
              <p:cNvPr id="78" name="Picture 31" descr=""/>
              <p:cNvPicPr/>
              <p:nvPr/>
            </p:nvPicPr>
            <p:blipFill>
              <a:blip r:embed="rId5">
                <a:lum bright="70000" contrast="-70000"/>
              </a:blip>
              <a:stretch/>
            </p:blipFill>
            <p:spPr>
              <a:xfrm>
                <a:off x="547560" y="3884760"/>
                <a:ext cx="83700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 Box 32"/>
              <p:cNvSpPr/>
              <p:nvPr/>
            </p:nvSpPr>
            <p:spPr>
              <a:xfrm>
                <a:off x="593640" y="411264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ahoma"/>
                  </a:rPr>
                  <a:t>FCS 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Line 33"/>
          <p:cNvSpPr/>
          <p:nvPr/>
        </p:nvSpPr>
        <p:spPr>
          <a:xfrm>
            <a:off x="6702480" y="1143000"/>
            <a:ext cx="1440" cy="4876920"/>
          </a:xfrm>
          <a:prstGeom prst="line">
            <a:avLst/>
          </a:prstGeom>
          <a:ln w="2844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34"/>
          <p:cNvSpPr/>
          <p:nvPr/>
        </p:nvSpPr>
        <p:spPr>
          <a:xfrm>
            <a:off x="4568760" y="1065240"/>
            <a:ext cx="1800" cy="4876920"/>
          </a:xfrm>
          <a:prstGeom prst="line">
            <a:avLst/>
          </a:prstGeom>
          <a:ln w="2844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4718160" y="793800"/>
            <a:ext cx="188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36"/>
          <p:cNvSpPr/>
          <p:nvPr/>
        </p:nvSpPr>
        <p:spPr>
          <a:xfrm>
            <a:off x="1725480" y="3373560"/>
            <a:ext cx="560520" cy="1440"/>
          </a:xfrm>
          <a:prstGeom prst="line">
            <a:avLst/>
          </a:prstGeom>
          <a:ln w="27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2523960" y="1670040"/>
            <a:ext cx="1482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flow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38"/>
          <p:cNvSpPr/>
          <p:nvPr/>
        </p:nvSpPr>
        <p:spPr>
          <a:xfrm>
            <a:off x="4689360" y="2552760"/>
            <a:ext cx="19256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compens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sub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39"/>
          <p:cNvSpPr/>
          <p:nvPr/>
        </p:nvSpPr>
        <p:spPr>
          <a:xfrm>
            <a:off x="1417680" y="2320920"/>
            <a:ext cx="179280" cy="2021040"/>
          </a:xfrm>
          <a:custGeom>
            <a:avLst/>
            <a:gdLst>
              <a:gd name="textAreaLeft" fmla="*/ 0 w 179280"/>
              <a:gd name="textAreaRight" fmla="*/ 64800 w 179280"/>
              <a:gd name="textAreaTop" fmla="*/ 52560 h 2021040"/>
              <a:gd name="textAreaBottom" fmla="*/ 196848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47"/>
                </a:lnTo>
                <a:cubicBezTo>
                  <a:pt x="10800" y="10247"/>
                  <a:pt x="16200" y="11147"/>
                  <a:pt x="21600" y="11147"/>
                </a:cubicBezTo>
                <a:cubicBezTo>
                  <a:pt x="16200" y="11147"/>
                  <a:pt x="10800" y="12047"/>
                  <a:pt x="10800" y="1294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3040200" y="4164120"/>
            <a:ext cx="409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41"/>
          <p:cNvSpPr/>
          <p:nvPr/>
        </p:nvSpPr>
        <p:spPr>
          <a:xfrm>
            <a:off x="1725480" y="5497560"/>
            <a:ext cx="560520" cy="1440"/>
          </a:xfrm>
          <a:prstGeom prst="line">
            <a:avLst/>
          </a:prstGeom>
          <a:ln w="27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2511360" y="5079960"/>
            <a:ext cx="13716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2484360" y="5014800"/>
            <a:ext cx="155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Age Sex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f1  41  m  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f2  44  f  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f3  41  m  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5"/>
          <p:cNvSpPr/>
          <p:nvPr/>
        </p:nvSpPr>
        <p:spPr>
          <a:xfrm>
            <a:off x="3197160" y="5078520"/>
            <a:ext cx="181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46"/>
          <p:cNvSpPr/>
          <p:nvPr/>
        </p:nvSpPr>
        <p:spPr>
          <a:xfrm>
            <a:off x="2583000" y="527040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olwenn</dc:creator>
  <dc:description/>
  <dc:language>en-US</dc:language>
  <cp:lastModifiedBy>Nolwenn Le Meur</cp:lastModifiedBy>
  <dcterms:modified xsi:type="dcterms:W3CDTF">2009-01-15T15:15:55Z</dcterms:modified>
  <cp:revision>2</cp:revision>
  <dc:subject/>
  <dc:title>Présentation PowerPoint</dc:title>
</cp:coreProperties>
</file>